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2011-F077-47C0-AF07-6046E0298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79A1-7454-484D-9C5A-F24582DFF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1BA5-0CF0-41C2-8B36-0ECB1380F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445A-B029-4D98-AA32-3E513C788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CAAC-31A1-4030-A6B0-73AF69215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6351-7D28-4D5C-8CA8-2447BD733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34F4-D151-4A49-B025-EE6C87032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2964-CFB3-4462-90F5-A4BC6ABDA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E1DA-82FC-4F1D-9E43-C9586141E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1E86-B160-4041-BE13-94ABE9B33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2FA1-C4BC-4F35-A89B-CCA0A146D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E1C8-DE2D-4C7F-A204-2AEA4D5EF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365D-EEF8-4F67-8278-3094EF23B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E83-2C87-42BD-93A6-9C9E52B3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A68-CE4D-466A-A24A-65B3ED7C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19E-4B30-4B25-9371-6F146F33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FA85-671E-4257-A3D7-488423CE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5523-06FA-478F-A3DE-D6D8ACE1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42A-F6FB-45DE-8E65-11FAFB77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3E7E-284A-4963-82FF-C84A1133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CE3-208B-4F24-8B09-99708B43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77E-173A-4F9A-B4EB-AF0F6126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CCFC-822E-4A4E-98FD-CF93486B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88F-EEC0-45C7-B773-11ED6131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B42-1F8A-45BD-BE88-BA34A897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CB97-0CC8-4526-A82C-1E43450E5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ous 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guess their 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Michael-Phelps-breaks-100m-butterfly-record"/>
          <p:cNvPicPr/>
          <p:nvPr/>
        </p:nvPicPr>
        <p:blipFill>
          <a:blip r:embed="rId1"/>
          <a:stretch/>
        </p:blipFill>
        <p:spPr>
          <a:xfrm>
            <a:off x="2743200" y="152280"/>
            <a:ext cx="3762360" cy="5400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666880" y="5943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chael Phe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oprah-winfrey1"/>
          <p:cNvPicPr/>
          <p:nvPr/>
        </p:nvPicPr>
        <p:blipFill>
          <a:blip r:embed="rId2"/>
          <a:stretch/>
        </p:blipFill>
        <p:spPr>
          <a:xfrm>
            <a:off x="2743200" y="380880"/>
            <a:ext cx="3772080" cy="5400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2590920" y="60199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rah Winf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a1c0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6"/>
          <p:cNvSpPr/>
          <p:nvPr/>
        </p:nvSpPr>
        <p:spPr>
          <a:xfrm>
            <a:off x="2362320" y="533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y 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krayfox\Documents\My Dropbox\~T^3 Instructor\MugShot.jpg"/>
          <p:cNvPicPr/>
          <p:nvPr/>
        </p:nvPicPr>
        <p:blipFill>
          <a:blip r:embed="rId1"/>
          <a:stretch/>
        </p:blipFill>
        <p:spPr>
          <a:xfrm>
            <a:off x="3352680" y="1874880"/>
            <a:ext cx="2533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ual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60160"/>
            <a:ext cx="533412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d Pit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 Cos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er Wo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ylor Swi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 Barack Ob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l Way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lary Clint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ney Sp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ael Phel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rah Winfr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5943600" y="1523880"/>
            <a:ext cx="2819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/28/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/12/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/30/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/13/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/4/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/27/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/26/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/2/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/30/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29/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/3/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6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6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ual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d Pitt -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 Cosby- 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er Woods - 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ylor Swift -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 Barack Obama -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l Wayne -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lary Clinton - 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ney Spears -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ael Phelps -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rah Winfrey – 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y Fox - 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5943600" y="1523880"/>
            <a:ext cx="2819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/28/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/12/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/30/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/13/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/4/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/27/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/26/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/2/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/30/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29/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/3/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65e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A Caucasian male in his mid-40s with brown hair. He is wearing a black suit and white shirt with a black bow-tie."/>
          <p:cNvPicPr/>
          <p:nvPr/>
        </p:nvPicPr>
        <p:blipFill>
          <a:blip r:embed="rId1"/>
          <a:stretch/>
        </p:blipFill>
        <p:spPr>
          <a:xfrm>
            <a:off x="3548160" y="1890720"/>
            <a:ext cx="204768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1905120" y="53341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ad P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1676520" y="54673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ll Co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2852640" y="1390680"/>
            <a:ext cx="34387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5e18"/>
            </a:gs>
            <a:gs pos="100000">
              <a:srgbClr val="33cc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 "/>
          <p:cNvPicPr/>
          <p:nvPr/>
        </p:nvPicPr>
        <p:blipFill>
          <a:blip r:embed="rId1"/>
          <a:stretch/>
        </p:blipFill>
        <p:spPr>
          <a:xfrm>
            <a:off x="1952640" y="1928880"/>
            <a:ext cx="5238720" cy="3000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133720" y="51814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ger W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d43a022f140f0400eaaffbc34480bcf3"/>
          <p:cNvPicPr/>
          <p:nvPr/>
        </p:nvPicPr>
        <p:blipFill>
          <a:blip r:embed="rId1"/>
          <a:stretch/>
        </p:blipFill>
        <p:spPr>
          <a:xfrm>
            <a:off x="785880" y="762120"/>
            <a:ext cx="7572240" cy="6005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676520" y="8380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ylor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Portrait of Barack Obama"/>
          <p:cNvPicPr/>
          <p:nvPr/>
        </p:nvPicPr>
        <p:blipFill>
          <a:blip r:embed="rId2"/>
          <a:stretch/>
        </p:blipFill>
        <p:spPr>
          <a:xfrm>
            <a:off x="3381480" y="1809720"/>
            <a:ext cx="2381040" cy="32385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1752480" y="54100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sident Barack O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c24e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thumbnail"/>
          <p:cNvPicPr/>
          <p:nvPr/>
        </p:nvPicPr>
        <p:blipFill>
          <a:blip r:embed="rId1"/>
          <a:stretch/>
        </p:blipFill>
        <p:spPr>
          <a:xfrm>
            <a:off x="2967120" y="1752480"/>
            <a:ext cx="3529080" cy="4343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590920" y="4572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l W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a1c0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Hillary_Clinton_Leads"/>
          <p:cNvPicPr/>
          <p:nvPr/>
        </p:nvPicPr>
        <p:blipFill>
          <a:blip r:embed="rId1"/>
          <a:stretch/>
        </p:blipFill>
        <p:spPr>
          <a:xfrm>
            <a:off x="3143160" y="1766880"/>
            <a:ext cx="2857680" cy="33242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2362320" y="533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lary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britney_spears01"/>
          <p:cNvPicPr/>
          <p:nvPr/>
        </p:nvPicPr>
        <p:blipFill>
          <a:blip r:embed="rId2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2362320" y="6858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tney Sp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01:00:21Z</dcterms:created>
  <dc:creator>Karen Boles</dc:creator>
  <dc:description/>
  <dc:language>en-US</dc:language>
  <cp:lastModifiedBy>Rsy Fox</cp:lastModifiedBy>
  <dcterms:modified xsi:type="dcterms:W3CDTF">2012-02-22T00:11:36Z</dcterms:modified>
  <cp:revision>21</cp:revision>
  <dc:subject/>
  <dc:title>Famous People</dc:title>
</cp:coreProperties>
</file>